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EE05-FE61-4D30-AB40-698B97491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AD15-8295-4A8C-BCC5-115C48563E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BED-52C5-45C6-921B-2CF89E5B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CE6-AD65-4E8A-9000-C7414B3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6E7-E3AA-4AF1-B8F5-67FDEAF3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DCC-1571-4982-8B3D-3726F68F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4875-184A-49F6-A09B-54EFE81D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6179-14DF-4595-82CD-E1274D9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DA45-1F14-4B09-8C5E-A69D2FF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546B-8CC1-4228-AFF5-456E3B42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9DCC-F1B1-4606-B0D1-475CFBBC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AA30-B7EB-48CE-9EAC-8DF6E9A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2BF6-1ADE-4B72-B04D-61D256B6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D02-90FE-4FCF-8F7E-13D2CAA1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ACF3-B990-4D24-9060-5BD019AF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3E1-969F-4A98-94DA-840C7A7F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139C-5F9D-4320-9F6D-199B3427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F6D9-B951-4D3A-9C26-184A0EE0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7E9A-EF08-4747-A92B-D00F098D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0F8-2E6E-4288-8E43-4F689FF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796-1F4E-425F-BD78-FC6679E2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797-4F83-4CEF-AEA7-8701F427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7FF-4709-4D2C-801F-21BD83AD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3BE-FAC7-4F7C-A3FC-66FD6F8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E4C-FA30-4FDA-92E1-994910FA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F3F-9D96-40CA-BC34-AD5FA346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CDB1-328E-47D0-83E9-33A941D1840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5C68-E2A3-48C0-9B5B-AE583AE4321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3" descr=""/>
          <p:cNvPicPr/>
          <p:nvPr/>
        </p:nvPicPr>
        <p:blipFill>
          <a:blip r:embed="rId1"/>
          <a:stretch/>
        </p:blipFill>
        <p:spPr>
          <a:xfrm>
            <a:off x="304920" y="36360"/>
            <a:ext cx="8643960" cy="3468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православной культу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«Айдарская средняя общеобразовательная школ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. Б.Г. Кандыбин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тобрюхова С.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Users\Светик\Desktop\ЗА 7 ПЕЧАТЯМИ\filip_ivan_groz.jpg"/>
          <p:cNvPicPr/>
          <p:nvPr/>
        </p:nvPicPr>
        <p:blipFill>
          <a:blip r:embed="rId1"/>
          <a:stretch/>
        </p:blipFill>
        <p:spPr>
          <a:xfrm>
            <a:off x="1500120" y="0"/>
            <a:ext cx="5643720" cy="62866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428760" y="621504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Митрополит отказывается благословить Ивана Гроз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Светик\Desktop\ЗА 7 ПЕЧАТЯМИ\fillip2.jpg"/>
          <p:cNvPicPr/>
          <p:nvPr/>
        </p:nvPicPr>
        <p:blipFill>
          <a:blip r:embed="rId1"/>
          <a:stretch/>
        </p:blipFill>
        <p:spPr>
          <a:xfrm>
            <a:off x="1928880" y="214200"/>
            <a:ext cx="5286240" cy="6072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2000160" y="61437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Последние минуты митрополита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А.Н. Новоскольц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Светик\Desktop\ЗА 7 ПЕЧАТЯМИ\800PX-~1_(2).JPG"/>
          <p:cNvPicPr/>
          <p:nvPr/>
        </p:nvPicPr>
        <p:blipFill>
          <a:blip r:embed="rId1"/>
          <a:stretch/>
        </p:blipFill>
        <p:spPr>
          <a:xfrm>
            <a:off x="714240" y="571680"/>
            <a:ext cx="7858440" cy="59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Светик\Desktop\ЗА 7 ПЕЧАТЯМИ\Raka_phillip.jpg"/>
          <p:cNvPicPr/>
          <p:nvPr/>
        </p:nvPicPr>
        <p:blipFill>
          <a:blip r:embed="rId1"/>
          <a:stretch/>
        </p:blipFill>
        <p:spPr>
          <a:xfrm>
            <a:off x="2643120" y="214200"/>
            <a:ext cx="4481640" cy="62992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813600" y="6488280"/>
            <a:ext cx="82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 Narrow"/>
              </a:rPr>
              <a:t>Рака с мощами святителя Филиппа. Успенский собор Московского Кремля</a:t>
            </a:r>
            <a:r>
              <a:rPr b="0" i="1" lang="ru-RU" sz="2000" spc="-1" strike="noStrike">
                <a:solidFill>
                  <a:srgbClr val="00b0f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C:\Users\user\Desktop\Святая Русь\vse_sviatye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072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1357200" y="628776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Подвиг за прав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Христо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Светик\Desktop\ЗА 7 ПЕЧАТЯМИ\hello_html_29a33c1c.png"/>
          <p:cNvPicPr/>
          <p:nvPr/>
        </p:nvPicPr>
        <p:blipFill>
          <a:blip r:embed="rId1"/>
          <a:stretch/>
        </p:blipFill>
        <p:spPr>
          <a:xfrm>
            <a:off x="428760" y="285840"/>
            <a:ext cx="850104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Светик\Desktop\ЗА 7 ПЕЧАТЯМИ\829285.jpg"/>
          <p:cNvPicPr/>
          <p:nvPr/>
        </p:nvPicPr>
        <p:blipFill>
          <a:blip r:embed="rId1"/>
          <a:stretch/>
        </p:blipFill>
        <p:spPr>
          <a:xfrm>
            <a:off x="1714680" y="428760"/>
            <a:ext cx="606708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02"/>
          <p:cNvPicPr/>
          <p:nvPr/>
        </p:nvPicPr>
        <p:blipFill>
          <a:blip r:embed="rId1"/>
          <a:stretch/>
        </p:blipFill>
        <p:spPr>
          <a:xfrm>
            <a:off x="4992840" y="420840"/>
            <a:ext cx="3657600" cy="2798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Светик\Desktop\i.jpg"/>
          <p:cNvPicPr/>
          <p:nvPr/>
        </p:nvPicPr>
        <p:blipFill>
          <a:blip r:embed="rId2"/>
          <a:stretch/>
        </p:blipFill>
        <p:spPr>
          <a:xfrm>
            <a:off x="714240" y="428760"/>
            <a:ext cx="3571920" cy="27144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5"/>
          <p:cNvSpPr/>
          <p:nvPr/>
        </p:nvSpPr>
        <p:spPr>
          <a:xfrm>
            <a:off x="1011960" y="30718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оводевичий монасты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5572080" y="307188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анилов монасты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Users\Светик\Desktop\ЗА 7 ПЕЧАТЯМИ\i.jpg"/>
          <p:cNvPicPr/>
          <p:nvPr/>
        </p:nvPicPr>
        <p:blipFill>
          <a:blip r:embed="rId3"/>
          <a:stretch/>
        </p:blipFill>
        <p:spPr>
          <a:xfrm>
            <a:off x="714240" y="3571920"/>
            <a:ext cx="3571920" cy="2500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3"/>
          <p:cNvSpPr/>
          <p:nvPr/>
        </p:nvSpPr>
        <p:spPr>
          <a:xfrm>
            <a:off x="1363680" y="607212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ловецкая об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1" descr="&amp;Vcy;&amp;acy;&amp;lcy;&amp;acy;&amp;acy;&amp;mcy;&amp;scy;&amp;kcy;&amp;icy;&amp;jcy; &amp;mcy;&amp;ocy;&amp;ncy;&amp;acy;&amp;scy;&amp;tcy;&amp;ycy;&amp;rcy;&amp;softcy;, 2002 &amp;gcy;&amp;ocy;&amp;dcy;."/>
          <p:cNvPicPr/>
          <p:nvPr/>
        </p:nvPicPr>
        <p:blipFill>
          <a:blip r:embed="rId4"/>
          <a:stretch/>
        </p:blipFill>
        <p:spPr>
          <a:xfrm>
            <a:off x="4929120" y="3500280"/>
            <a:ext cx="3571920" cy="2643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5443920" y="621504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лаамский монасты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C:\Users\Светик\Desktop\ЗА 7 ПЕЧАТЯМИ\hqdefault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785960" y="785880"/>
          <a:ext cx="5638680" cy="2468520"/>
        </p:xfrm>
        <a:graphic>
          <a:graphicData uri="http://schemas.openxmlformats.org/drawingml/2006/table">
            <a:tbl>
              <a:tblPr/>
              <a:tblGrid>
                <a:gridCol w="438120"/>
                <a:gridCol w="438120"/>
                <a:gridCol w="439920"/>
                <a:gridCol w="93600"/>
                <a:gridCol w="387360"/>
                <a:gridCol w="439560"/>
                <a:gridCol w="417600"/>
                <a:gridCol w="417600"/>
                <a:gridCol w="460440"/>
                <a:gridCol w="438120"/>
                <a:gridCol w="439560"/>
                <a:gridCol w="438120"/>
                <a:gridCol w="352440"/>
                <a:gridCol w="438120"/>
              </a:tblGrid>
              <a:tr h="2746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27468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27468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3a8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642960" y="3653640"/>
            <a:ext cx="7143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1. Обращение к Бог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2. Ученик Иисуса Хрис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3. Главный храм монастыр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4. Истинно, да будет та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5. Обычай ходить по святым мест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6. Человек, поступивший в монастырь, но не принявший монашеского об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7. Один из основателей Соловецкой обител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8. Православный мон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9. Остров в северной части Ладожского озера, на котором апостол Андрей Первозванный установил каменный крес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&amp;Mcy;&amp;icy;&amp;tcy;&amp;rcy;&amp;ocy;&amp;pcy;&amp;ocy;&amp;lcy;&amp;icy;&amp;tcy; &amp;Fcy;&amp;icy;&amp;lcy;&amp;icy;&amp;pcy;&amp;pcy; &amp;ocy;&amp;bcy;&amp;lcy;&amp;icy;&amp;chcy;&amp;acy;&amp;iecy;&amp;tcy; &amp;Icy;&amp;vcy;&amp;acy;&amp;ncy;&amp;acy; &amp;Gcy;&amp;rcy;&amp;ocy;&amp;zcy;&amp;ncy;&amp;ocy;&amp;gcy;&amp;ocy;"/>
          <p:cNvPicPr/>
          <p:nvPr/>
        </p:nvPicPr>
        <p:blipFill>
          <a:blip r:embed="rId1"/>
          <a:stretch/>
        </p:blipFill>
        <p:spPr>
          <a:xfrm>
            <a:off x="928800" y="500040"/>
            <a:ext cx="7358040" cy="5572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571760" y="6143760"/>
            <a:ext cx="61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Митрополит обличает Ивана Гроз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4:58:59Z</dcterms:created>
  <dc:creator>Пользователь</dc:creator>
  <dc:description/>
  <dc:language>en-US</dc:language>
  <cp:lastModifiedBy>Светик</cp:lastModifiedBy>
  <dcterms:modified xsi:type="dcterms:W3CDTF">2016-11-13T20:48:10Z</dcterms:modified>
  <cp:revision>172</cp:revision>
  <dc:subject/>
  <dc:title>Эгейское искусство</dc:title>
</cp:coreProperties>
</file>