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FB7E-E4A8-4FAA-8264-F82F7C079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0DC9-B3E0-4F6E-81D9-80AEA9943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2F5C-B882-420C-8B26-1584B3D50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24DF-898E-4E66-8562-EDA30843E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CB3E7-0500-4784-A147-C03549C78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09F4F-8F73-452B-A864-F2C1770EE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B20DD-0228-4198-85AE-209C61C96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6235D-12E8-4F74-8C1B-E1DE953F5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59C8D-CDE8-42C9-B6C4-F10EA6932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D5495-8F99-43F4-B163-6A534508B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1305C-F8D8-4E3B-9E95-896C65CA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F0D1-BC04-4F84-9D83-DFCCFFB32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FF4AC-A37B-4DCD-840B-687305B3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DD4F3-4DAC-4A5B-9BC2-5608626D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9D16D-2B1E-439D-8DB7-E988283A8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7EF4B-BE51-4A1D-9D4C-B16476B32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DC932-5D56-454D-8957-8399E856A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A3BE7-9096-4291-9E7F-ACF540700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97241-28B8-45AC-8186-89B5310C8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FA7AF-724F-4470-A92B-A799FDB46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7AAF4-EF66-4C4A-8AD2-4A665A8E7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91FC4-39EC-45E9-A2F6-AE2D38939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771A-0647-4F93-890A-158E74503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58790-09CC-4703-A2DF-79CFAF5ED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7BCB4-80C6-4196-BF3E-AEDD93B9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663DA-297D-408D-8B79-48F5ADC8F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ABEE2-AA8F-4757-8BD3-D09C06297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1AE16-C6F0-4625-9220-3399E9D8A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926EF-562E-491B-A663-41C7ECC4A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04347-09A8-4C8C-97D7-86C654AD5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6739B-E5B2-48A3-9969-F8355CD7D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4208D-3CD1-421F-8AFB-780517132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C3029-3DD3-4060-B810-AECD71BE3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3EF6-EE9A-4923-8AFC-1DCED47D7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FF076-8B60-40E1-BE66-C0C529207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E3040-5D97-46A3-A081-7F266DAEB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F53D8-99C7-4D9E-80F9-FE9041BFF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CA67F-9E70-45DB-A15A-E20091BF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454FD-1315-4EF6-88BA-32DCE191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C4E9E-BDB8-4705-AB90-F33AE200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447E3-8FD1-4532-B34C-AD5A3C9FE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7EE47-C083-4309-8274-D31216009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1E545-59DD-4CAC-B8D7-4E746C028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8B5BFC-8659-4B00-9F16-1FE4E5CA7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D27B-4012-4007-B3CB-B1BAA4D5A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6851D0-28DE-4F55-94EE-73731BD56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333B90-A1AB-4A38-8EE4-F984993CB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81EA5-3F41-4A82-838E-E4D3E05CD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1CFCFC-2088-486B-8069-5B2C01328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6C08A6-FBA8-44F3-99BE-7B0413871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A4829-16A3-46EB-809E-5E7F0CB1A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54CB4-0C55-490A-98CA-E47EB5699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9751A-FAE0-4EF6-9558-CFCBEEF0D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FB955C-9A64-48C7-8A9B-3147EF51A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4D5F2-B552-4025-A7E8-47F85CC5A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580F-322B-4229-86B2-A64DECF82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80A348-520D-439B-82D6-84D4C7FCB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9AF2B1-F794-4DEF-9158-7F79AB41E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44CD69-2299-4CA2-888F-93C519C7D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662372-30DC-47BB-AB4C-851ED170C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C2A322-C838-40D9-A961-4DAFA0109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C2984C-CDA6-4003-8BCA-BC3B23EFF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405BEC-4A06-4480-A62B-9894ABD39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F05AA-9C4F-4BB2-BDC4-37672EE3A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2FECBD-8832-44BE-B7DD-4C5EBB80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74BEC9-66FB-4539-8996-B4069739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8012-5D0C-4F1F-845F-CB7AD91F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F7DB10-A1E1-459F-8463-BD8502866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1BFBDC-7C0F-4E6C-927F-25CE862E7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B083C6-F3B5-46B7-8805-215E48C9A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C1C7A0-3A23-4DD4-9D92-B26C7A43D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7123E9-9BAF-4777-A1A8-DFCAC19B3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07034E-4474-4EDF-A550-3CB8FBB07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BFEDC4-C6A0-4D45-9BB6-F5C3C6A84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0FF6D7-D2CB-4FC6-AF6D-9C44BC274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DDBE1B-BFA8-402D-A6DE-B66F641F8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C652FE-9DD6-404A-94FC-8FB2446F9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75E9-9AF3-4583-8F68-C1CD3476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494BAE-C36D-40FE-AD11-25FDCE4E1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488F0A-4D7E-45B9-A9A3-C4D0DD084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9A5A0D-0CC2-4A1F-A6C8-676A443DB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B31114-5393-4157-B896-774902174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7DB02A-CB77-49E5-A514-A2EE47C22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7AD88E-703C-45D7-805B-0125D20FF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C20C35-CFDE-4B2A-895D-9589615A3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A486E3-FF65-41EC-9527-12A6918C5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664E79-5139-4037-A85D-F75AF1102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5AFF5A-DC4F-41D8-8C15-6629027D3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8EC0-0E07-4E2B-9080-A9323A96B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E01F4E-9D8D-466F-9EB2-E893C65B0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675D65-4920-4ABE-B2C4-CBBE33EE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F38651-23BC-44F4-BB58-EA7DF2CA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4B1E37-DE87-41FD-A19F-7515CD44F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ADB1D6-3EAF-40D5-955B-74233F05D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B9850D-7004-409B-8812-08D5A7F8C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859E26-DBF7-438B-AA47-CDB105116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8D32B-7F46-4B5F-91A1-9CC9FA3E2181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EA6A6-1516-4536-B8EE-690A0D5CC38F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D1328-5A23-4A3C-9240-47E48153D80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5DC0A-51DC-459D-8000-0BD5CFD11D7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00280-643F-48C3-A39D-76F0C74B7DB1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65435-E4D2-44DF-BA91-13ADC9926F8B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CDE65-9F02-4AB5-A70B-9BC91CC519B8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337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2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3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4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8DF87-E7A7-4B52-A9E0-A29FDAC9270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4"/>
          <p:cNvSpPr/>
          <p:nvPr/>
        </p:nvSpPr>
        <p:spPr>
          <a:xfrm>
            <a:off x="652680" y="704520"/>
            <a:ext cx="8073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«Учиться можно только весело…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бы переваривать знания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до поглощать их с аппетитом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натоль Фран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5" descr=""/>
          <p:cNvPicPr/>
          <p:nvPr/>
        </p:nvPicPr>
        <p:blipFill>
          <a:blip r:embed="rId1"/>
          <a:stretch/>
        </p:blipFill>
        <p:spPr>
          <a:xfrm>
            <a:off x="5148360" y="3716280"/>
            <a:ext cx="326700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WordArt 2"/>
          <p:cNvSpPr txBox="1"/>
          <p:nvPr/>
        </p:nvSpPr>
        <p:spPr>
          <a:xfrm>
            <a:off x="2195640" y="339840"/>
            <a:ext cx="4319640" cy="56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5eaeff"/>
                  </a:solidFill>
                  <a:miter/>
                </a:ln>
                <a:gradFill rotWithShape="0">
                  <a:gsLst>
                    <a:gs pos="0">
                      <a:srgbClr val="4110bc"/>
                    </a:gs>
                    <a:gs pos="100000">
                      <a:srgbClr val="ad7ef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endParaRPr b="1" lang="en-US" sz="2400" spc="1" strike="noStrike">
              <a:ln w="19080">
                <a:solidFill>
                  <a:srgbClr val="5eaeff"/>
                </a:solidFill>
                <a:miter/>
              </a:ln>
              <a:gradFill rotWithShape="0">
                <a:gsLst>
                  <a:gs pos="0">
                    <a:srgbClr val="4110bc"/>
                  </a:gs>
                  <a:gs pos="100000">
                    <a:srgbClr val="ad7ef2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86" name="Text Box 3"/>
          <p:cNvSpPr/>
          <p:nvPr/>
        </p:nvSpPr>
        <p:spPr>
          <a:xfrm>
            <a:off x="309600" y="110664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фера (шар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7"/>
          <p:cNvSpPr/>
          <p:nvPr/>
        </p:nvSpPr>
        <p:spPr>
          <a:xfrm>
            <a:off x="6877080" y="5084640"/>
            <a:ext cx="2266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8" descr="Шар (2)"/>
          <p:cNvPicPr/>
          <p:nvPr/>
        </p:nvPicPr>
        <p:blipFill>
          <a:blip r:embed="rId1"/>
          <a:srcRect l="13101" t="7435" r="49127" b="27881"/>
          <a:stretch/>
        </p:blipFill>
        <p:spPr>
          <a:xfrm>
            <a:off x="142920" y="1986120"/>
            <a:ext cx="2952720" cy="2636640"/>
          </a:xfrm>
          <a:prstGeom prst="rect">
            <a:avLst/>
          </a:prstGeom>
          <a:ln w="9360">
            <a:solidFill>
              <a:srgbClr val="5d1ae4"/>
            </a:solidFill>
            <a:miter/>
          </a:ln>
        </p:spPr>
      </p:pic>
      <p:sp>
        <p:nvSpPr>
          <p:cNvPr id="389" name="Text Box 9"/>
          <p:cNvSpPr/>
          <p:nvPr/>
        </p:nvSpPr>
        <p:spPr>
          <a:xfrm>
            <a:off x="1258920" y="27082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0"/>
          <p:cNvSpPr/>
          <p:nvPr/>
        </p:nvSpPr>
        <p:spPr>
          <a:xfrm>
            <a:off x="1332000" y="1557360"/>
            <a:ext cx="93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6ea"/>
                </a:solidFill>
                <a:latin typeface="Times New Roman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11"/>
          <p:cNvSpPr/>
          <p:nvPr/>
        </p:nvSpPr>
        <p:spPr>
          <a:xfrm>
            <a:off x="2124000" y="24922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2"/>
          <p:cNvSpPr/>
          <p:nvPr/>
        </p:nvSpPr>
        <p:spPr>
          <a:xfrm>
            <a:off x="179280" y="2637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3"/>
          <p:cNvSpPr/>
          <p:nvPr/>
        </p:nvSpPr>
        <p:spPr>
          <a:xfrm>
            <a:off x="1403280" y="342900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b26ea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4"/>
          <p:cNvSpPr/>
          <p:nvPr/>
        </p:nvSpPr>
        <p:spPr>
          <a:xfrm>
            <a:off x="3203640" y="1728720"/>
            <a:ext cx="594036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03c9"/>
                </a:solidFill>
                <a:latin typeface="Times New Roman"/>
              </a:rPr>
              <a:t>Шар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– множество точек пространства, находящихся на  расстоянии не большем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от данной точ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гура, полученная в результате вращения полукруга вокруг диаметра, называется </a:t>
            </a:r>
            <a:r>
              <a:rPr b="0" lang="ru-RU" sz="2400" spc="-1" strike="noStrike">
                <a:solidFill>
                  <a:srgbClr val="4584d3"/>
                </a:solidFill>
                <a:latin typeface="Arial"/>
              </a:rPr>
              <a:t>шар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5"/>
          <p:cNvSpPr/>
          <p:nvPr/>
        </p:nvSpPr>
        <p:spPr>
          <a:xfrm>
            <a:off x="2843280" y="256536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Object 4"/>
              <p:cNvSpPr txBox="1"/>
              <p:nvPr/>
            </p:nvSpPr>
            <p:spPr>
              <a:xfrm>
                <a:off x="3780000" y="4595760"/>
                <a:ext cx="251280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97" name="Прямоугольник 2"/>
          <p:cNvSpPr/>
          <p:nvPr/>
        </p:nvSpPr>
        <p:spPr>
          <a:xfrm>
            <a:off x="2130480" y="382680"/>
            <a:ext cx="466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Шар и его ча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5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6,-116,-11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5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6,-116,-11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5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175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6,-116,-11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6,-116,-11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6,-116,-11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6,-116,-11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3080"/>
                            </p:stCondLst>
                            <p:childTnLst>
                              <p:par>
                                <p:cTn id="3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80"/>
                            </p:stCondLst>
                            <p:childTnLst>
                              <p:par>
                                <p:cTn id="4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7080"/>
                            </p:stCondLst>
                            <p:childTnLst>
                              <p:par>
                                <p:cTn id="5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9080"/>
                            </p:stCondLst>
                            <p:childTnLst>
                              <p:par>
                                <p:cTn id="6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108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1080"/>
                            </p:stCondLst>
                            <p:childTnLst>
                              <p:par>
                                <p:cTn id="7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Решите задачу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9" name="Прямоугольник 9"/>
          <p:cNvSpPr/>
          <p:nvPr/>
        </p:nvSpPr>
        <p:spPr>
          <a:xfrm>
            <a:off x="1547640" y="2133720"/>
            <a:ext cx="631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асса чугунного шара составляет 10 кг. Найти диаметр шара, если плотность чугуна равна 7,2 г/см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00" name="Object 5"/>
              <p:cNvSpPr txBox="1"/>
              <p:nvPr/>
            </p:nvSpPr>
            <p:spPr>
              <a:xfrm>
                <a:off x="5365800" y="620640"/>
                <a:ext cx="136836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ndara"/>
              </a:rPr>
              <a:t>Теорема: Объем шара равен</a:t>
            </a: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2" name="Oval 21"/>
          <p:cNvSpPr/>
          <p:nvPr/>
        </p:nvSpPr>
        <p:spPr>
          <a:xfrm>
            <a:off x="1042920" y="2637000"/>
            <a:ext cx="159876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22"/>
          <p:cNvSpPr/>
          <p:nvPr/>
        </p:nvSpPr>
        <p:spPr>
          <a:xfrm>
            <a:off x="1042920" y="3213000"/>
            <a:ext cx="1600200" cy="459000"/>
          </a:xfrm>
          <a:prstGeom prst="ellipse">
            <a:avLst/>
          </a:prstGeom>
          <a:solidFill>
            <a:srgbClr val="ffff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Oval 23"/>
          <p:cNvSpPr/>
          <p:nvPr/>
        </p:nvSpPr>
        <p:spPr>
          <a:xfrm>
            <a:off x="1258920" y="2792520"/>
            <a:ext cx="1143000" cy="342720"/>
          </a:xfrm>
          <a:prstGeom prst="ellipse">
            <a:avLst/>
          </a:prstGeom>
          <a:solidFill>
            <a:srgbClr val="ff99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24"/>
          <p:cNvSpPr/>
          <p:nvPr/>
        </p:nvSpPr>
        <p:spPr>
          <a:xfrm flipH="1">
            <a:off x="1271520" y="2865600"/>
            <a:ext cx="571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25"/>
          <p:cNvSpPr/>
          <p:nvPr/>
        </p:nvSpPr>
        <p:spPr>
          <a:xfrm>
            <a:off x="1271520" y="2865600"/>
            <a:ext cx="57168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WordArt 26"/>
          <p:cNvSpPr txBox="1"/>
          <p:nvPr/>
        </p:nvSpPr>
        <p:spPr>
          <a:xfrm rot="5400000">
            <a:off x="1877040" y="2488320"/>
            <a:ext cx="103320" cy="171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08" name="WordArt 27"/>
          <p:cNvSpPr txBox="1"/>
          <p:nvPr/>
        </p:nvSpPr>
        <p:spPr>
          <a:xfrm rot="5400000">
            <a:off x="1875600" y="4203000"/>
            <a:ext cx="106560" cy="171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09" name="WordArt 28"/>
          <p:cNvSpPr txBox="1"/>
          <p:nvPr/>
        </p:nvSpPr>
        <p:spPr>
          <a:xfrm rot="5400000">
            <a:off x="1886760" y="3393360"/>
            <a:ext cx="84240" cy="171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10" name="WordArt 29"/>
          <p:cNvSpPr txBox="1"/>
          <p:nvPr/>
        </p:nvSpPr>
        <p:spPr>
          <a:xfrm rot="5400000">
            <a:off x="1119600" y="2674080"/>
            <a:ext cx="188640" cy="114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11" name="WordArt 30"/>
          <p:cNvSpPr txBox="1"/>
          <p:nvPr/>
        </p:nvSpPr>
        <p:spPr>
          <a:xfrm rot="5400000">
            <a:off x="1873800" y="2716920"/>
            <a:ext cx="106200" cy="171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12" name="WordArt 31"/>
          <p:cNvSpPr txBox="1"/>
          <p:nvPr/>
        </p:nvSpPr>
        <p:spPr>
          <a:xfrm rot="5400000">
            <a:off x="2003760" y="2016720"/>
            <a:ext cx="47520" cy="144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х</a:t>
            </a:r>
            <a:endParaRPr b="0" lang="en-US" sz="9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13" name="Line 32"/>
          <p:cNvSpPr/>
          <p:nvPr/>
        </p:nvSpPr>
        <p:spPr>
          <a:xfrm>
            <a:off x="1843200" y="3551400"/>
            <a:ext cx="1255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33"/>
          <p:cNvSpPr/>
          <p:nvPr/>
        </p:nvSpPr>
        <p:spPr>
          <a:xfrm>
            <a:off x="1843200" y="2865600"/>
            <a:ext cx="1255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34"/>
          <p:cNvSpPr/>
          <p:nvPr/>
        </p:nvSpPr>
        <p:spPr>
          <a:xfrm>
            <a:off x="3098880" y="2865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WordArt 35"/>
          <p:cNvSpPr txBox="1"/>
          <p:nvPr/>
        </p:nvSpPr>
        <p:spPr>
          <a:xfrm rot="5400000">
            <a:off x="2918160" y="3159720"/>
            <a:ext cx="47520" cy="144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х</a:t>
            </a:r>
            <a:endParaRPr b="0" lang="en-US" sz="9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17" name="Line 36"/>
          <p:cNvSpPr/>
          <p:nvPr/>
        </p:nvSpPr>
        <p:spPr>
          <a:xfrm flipH="1" flipV="1">
            <a:off x="1843200" y="2065320"/>
            <a:ext cx="64800" cy="23716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39"/>
          <p:cNvSpPr/>
          <p:nvPr/>
        </p:nvSpPr>
        <p:spPr>
          <a:xfrm>
            <a:off x="3491640" y="2348640"/>
            <a:ext cx="27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=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40"/>
          <p:cNvSpPr/>
          <p:nvPr/>
        </p:nvSpPr>
        <p:spPr>
          <a:xfrm>
            <a:off x="4067280" y="2349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41"/>
          <p:cNvSpPr/>
          <p:nvPr/>
        </p:nvSpPr>
        <p:spPr>
          <a:xfrm>
            <a:off x="5580000" y="2349360"/>
            <a:ext cx="57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42"/>
          <p:cNvSpPr/>
          <p:nvPr/>
        </p:nvSpPr>
        <p:spPr>
          <a:xfrm>
            <a:off x="7021080" y="2491560"/>
            <a:ext cx="107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=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43"/>
          <p:cNvSpPr/>
          <p:nvPr/>
        </p:nvSpPr>
        <p:spPr>
          <a:xfrm>
            <a:off x="3781080" y="3141000"/>
            <a:ext cx="15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=п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44" descr=""/>
          <p:cNvPicPr/>
          <p:nvPr/>
        </p:nvPicPr>
        <p:blipFill>
          <a:blip r:embed="rId1"/>
          <a:stretch/>
        </p:blipFill>
        <p:spPr>
          <a:xfrm>
            <a:off x="3492360" y="3933720"/>
            <a:ext cx="4896000" cy="251964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5" descr=""/>
          <p:cNvPicPr/>
          <p:nvPr/>
        </p:nvPicPr>
        <p:blipFill>
          <a:blip r:embed="rId2"/>
          <a:srcRect l="63080" t="0" r="0" b="0"/>
          <a:stretch/>
        </p:blipFill>
        <p:spPr>
          <a:xfrm>
            <a:off x="6516720" y="3182760"/>
            <a:ext cx="1727280" cy="5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чи открытого банка заданий ЕГЭ</a:t>
            </a:r>
            <a:br>
              <a:rPr sz="4000"/>
            </a:b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1 Во сколько раз увеличится объём шара, если его радиус увеличить в три раза?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2 Радиусы трех шаров равны 6, 8 и 10. Найдите радиус шара, объём которого равен сумме их объёмов?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3 Объём шара равен 288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площадь его поверхности, деленную на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5"/>
          <p:cNvSpPr/>
          <p:nvPr/>
        </p:nvSpPr>
        <p:spPr>
          <a:xfrm>
            <a:off x="1835280" y="146880"/>
            <a:ext cx="51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22"/>
                </a:solidFill>
                <a:latin typeface="Arial"/>
              </a:rPr>
              <a:t>ПРОБЛЕМНАЯ ЗАДАЧ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6"/>
          <p:cNvSpPr/>
          <p:nvPr/>
        </p:nvSpPr>
        <p:spPr>
          <a:xfrm>
            <a:off x="324000" y="3352320"/>
            <a:ext cx="8353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уличной торговле арбуз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ы отсутствовали. Однако, выход был найден: арбуз диаметром </a:t>
            </a:r>
            <a:r>
              <a:rPr b="0" lang="ru-RU" sz="3200" spc="-1" strike="noStrike">
                <a:solidFill>
                  <a:srgbClr val="153133"/>
                </a:solidFill>
                <a:latin typeface="Times New Roman"/>
                <a:ea typeface="Times New Roman"/>
              </a:rPr>
              <a:t>3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м приравнивали по стоимости к трём арбузам диаметром 1 д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вы возьмет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ы ли были продавцы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Рисунок 11" descr="Мяч, глобус, арбуз"/>
          <p:cNvPicPr/>
          <p:nvPr/>
        </p:nvPicPr>
        <p:blipFill>
          <a:blip r:embed="rId1"/>
          <a:srcRect l="60626" t="32777" r="0" b="0"/>
          <a:stretch/>
        </p:blipFill>
        <p:spPr>
          <a:xfrm>
            <a:off x="826920" y="907920"/>
            <a:ext cx="1713240" cy="1766880"/>
          </a:xfrm>
          <a:prstGeom prst="rect">
            <a:avLst/>
          </a:prstGeom>
          <a:ln w="0">
            <a:noFill/>
          </a:ln>
        </p:spPr>
      </p:pic>
      <p:pic>
        <p:nvPicPr>
          <p:cNvPr id="429" name="Рисунок 11" descr="Мяч, глобус, арбуз"/>
          <p:cNvPicPr/>
          <p:nvPr/>
        </p:nvPicPr>
        <p:blipFill>
          <a:blip r:embed="rId2"/>
          <a:srcRect l="60626" t="32777" r="0" b="0"/>
          <a:stretch/>
        </p:blipFill>
        <p:spPr>
          <a:xfrm>
            <a:off x="3851280" y="1341360"/>
            <a:ext cx="934920" cy="916200"/>
          </a:xfrm>
          <a:prstGeom prst="rect">
            <a:avLst/>
          </a:prstGeom>
          <a:ln w="0">
            <a:noFill/>
          </a:ln>
        </p:spPr>
      </p:pic>
      <p:pic>
        <p:nvPicPr>
          <p:cNvPr id="430" name="Рисунок 11" descr="Мяч, глобус, арбуз"/>
          <p:cNvPicPr/>
          <p:nvPr/>
        </p:nvPicPr>
        <p:blipFill>
          <a:blip r:embed="rId3"/>
          <a:srcRect l="60626" t="32777" r="0" b="0"/>
          <a:stretch/>
        </p:blipFill>
        <p:spPr>
          <a:xfrm>
            <a:off x="6804000" y="1341360"/>
            <a:ext cx="863640" cy="846360"/>
          </a:xfrm>
          <a:prstGeom prst="rect">
            <a:avLst/>
          </a:prstGeom>
          <a:ln w="0">
            <a:noFill/>
          </a:ln>
        </p:spPr>
      </p:pic>
      <p:pic>
        <p:nvPicPr>
          <p:cNvPr id="431" name="Рисунок 11" descr="Мяч, глобус, арбуз"/>
          <p:cNvPicPr/>
          <p:nvPr/>
        </p:nvPicPr>
        <p:blipFill>
          <a:blip r:embed="rId4"/>
          <a:srcRect l="60626" t="32777" r="0" b="0"/>
          <a:stretch/>
        </p:blipFill>
        <p:spPr>
          <a:xfrm>
            <a:off x="5435640" y="1341360"/>
            <a:ext cx="863640" cy="846360"/>
          </a:xfrm>
          <a:prstGeom prst="rect">
            <a:avLst/>
          </a:prstGeom>
          <a:ln w="0">
            <a:noFill/>
          </a:ln>
        </p:spPr>
      </p:pic>
      <p:sp>
        <p:nvSpPr>
          <p:cNvPr id="432" name="Rectangle 12"/>
          <p:cNvSpPr/>
          <p:nvPr/>
        </p:nvSpPr>
        <p:spPr>
          <a:xfrm>
            <a:off x="2844360" y="1267560"/>
            <a:ext cx="837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13"/>
          <p:cNvSpPr/>
          <p:nvPr/>
        </p:nvSpPr>
        <p:spPr>
          <a:xfrm>
            <a:off x="4788000" y="1268280"/>
            <a:ext cx="57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14"/>
          <p:cNvSpPr/>
          <p:nvPr/>
        </p:nvSpPr>
        <p:spPr>
          <a:xfrm>
            <a:off x="6229080" y="1197000"/>
            <a:ext cx="62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Задание на дом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6" name="Прямоугольник 2"/>
          <p:cNvSpPr/>
          <p:nvPr/>
        </p:nvSpPr>
        <p:spPr>
          <a:xfrm>
            <a:off x="2124000" y="1628640"/>
            <a:ext cx="5381640" cy="45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.Повторить теоретический материал п.82, стр. 17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.Выполнить письмен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710 (в), 7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- Задание по выбор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. Подобрать две задачи с практическим содержанием по теме «Объём шар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Ответьте на вопросы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8" name="Прямоугольник 2"/>
          <p:cNvSpPr/>
          <p:nvPr/>
        </p:nvSpPr>
        <p:spPr>
          <a:xfrm>
            <a:off x="2286000" y="1536840"/>
            <a:ext cx="4572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. Во сколько раз необходимо увеличить радиус шара, чтобы его объём увеличился в 8 раз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Во сколько раз уменьшится объём шара, если радиус уменьшить в три раз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3. Найдите объём шара радиусом 3 с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12:05:00Z</dcterms:created>
  <dc:creator>Пользователь</dc:creator>
  <dc:description/>
  <dc:language>en-US</dc:language>
  <cp:lastModifiedBy>XTreme.ws</cp:lastModifiedBy>
  <dcterms:modified xsi:type="dcterms:W3CDTF">2021-04-04T18:18:14Z</dcterms:modified>
  <cp:revision>52</cp:revision>
  <dc:subject/>
  <dc:title>Слайд 1</dc:title>
</cp:coreProperties>
</file>