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5A58A-9DEA-4884-A46E-FA1328562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66043-236A-4AC7-8EFD-3054FA26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A8804-FDB9-4267-B5F9-88CDA8FAD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83FAA-09B2-4943-BB7B-1035F4C06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0B80-B011-4C44-96B6-12159F8CB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97BC-540D-41F5-AA31-EEA7A7B0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6CC9-C237-4F79-9645-9930318A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A07A-2043-43FB-94AA-180944D3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9D03-25AD-40B7-BD8D-15414A34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49E3-ACB6-4573-850F-966088D9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6518-A918-4CF6-880B-75793630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C67C0-E26E-4D7C-8D91-239134A2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A1F6-7F28-491B-BF71-53DE69D1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ADFA-AE50-4494-B1E5-79EBFFDC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7A92-A870-48DB-BAFA-E16C8025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9E05-CDF0-4356-A1DA-DDE6DBB62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B19B1-7DB1-4DAB-BD1A-4565D97E8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7F13A-35DF-4D59-ABCD-942290CF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2995C-949B-4183-8A36-FFEB1E98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21D5B-BA26-4263-8254-7C0C0154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AF9CF-3420-4F42-8305-F7063F4E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B85D9-E08F-4A0D-8A62-0D016BF8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9E0B6-105E-4F5C-99DE-76074C6E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B6053-6AE4-46C0-9AA0-453BA9AE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AD07-2067-4865-92AD-770441AABEB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D3F3-2BB3-40B4-BD75-307767BF4BC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3284280"/>
            <a:ext cx="82184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Назовите произведение и его жанр:</a:t>
            </a:r>
            <a:br>
              <a:rPr sz="3800"/>
            </a:b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«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В год 6406 (898). Был един народ славянский: и те славяне, которые сидели по Дунаю, покоренные уграми, и моравы, и чехи, и поляки, и поляне, которых теперь называют русь. Для них ведь, моравов, первоначально созданы буквы, названные славянской грамотой; эта же грамота и у русских и у болгар дунайских»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2637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Молитва –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1) установленный канонический текст, произносимый при обращении к Богу, к святым;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2) моление, страстная просьба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242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Цели урока:</a:t>
            </a:r>
            <a:br>
              <a:rPr sz="38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- выяснить особенности композиции «Повести о Горе-Злочастии»;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- определить библейские и фольклорные мотивы в повести;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-понять  смысл этой повести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28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723960" indent="-723960" algn="ctr">
              <a:buClr>
                <a:srgbClr val="ffffc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Сегодня на уроке я узнал…</a:t>
            </a:r>
            <a:br>
              <a:rPr sz="3800"/>
            </a:b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2) Своей работой на уроке я …</a:t>
            </a:r>
            <a:br>
              <a:rPr sz="3800"/>
            </a:b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3) Сегодня мне понравилось/ не понравилось …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32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Спасибо за работу на уроке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2708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Назовите произведение и его жанр:</a:t>
            </a:r>
            <a:br>
              <a:rPr sz="3800"/>
            </a:br>
            <a:br>
              <a:rPr sz="38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« Что умеете хорошего, то не забывайте, а чего не умеете, тому учитесь – как отец мой, дома сидя, знал пять языков, оттого и честь от других стран. Леность ведь всему мать: что кто умеет, то забудет, а чего не умеет, тому не научится»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278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Назовите произведение и его жанр:</a:t>
            </a:r>
            <a:br>
              <a:rPr sz="3800"/>
            </a:br>
            <a:br>
              <a:rPr sz="38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« И собрал небольшую дружину – тысячу семьсот человек, которых бог соблюл вне города. И погнались вослед безбожного царя, и едва нагнали его на земле Суздальской, и внезапно напали на станы Батыевы. И начали сечь без милости, и смешалися полки татарские. И стали татары точно пьяные или безумные. И бил их Евпатий так нещадно, что и мечи притуплялись, и брал он мечи татарские и сек ими. Почудилось татарам, что мертвые восстали»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1988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Назовите произведение и его жанр:</a:t>
            </a:r>
            <a:br>
              <a:rPr sz="38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Да и едет Тугарин-от Змеевич же,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Да и едет Тугарин да забавляется;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Впереди-то бежит да два серых волка,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Два серых волка да два как выжлока;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Позади-то летят да два черных ворона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206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Тема урока:</a:t>
            </a:r>
            <a:br>
              <a:rPr sz="3800"/>
            </a:b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«Повесть о Горе-Злочастии».</a:t>
            </a:r>
            <a:br>
              <a:rPr sz="3800"/>
            </a:b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Её библейская и фольклорная подоснова. Особенности композиции.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37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Цели урока:</a:t>
            </a:r>
            <a:br>
              <a:rPr sz="42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- выяснить особенности композиции «Повести о Горе-Злочастии»;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- определить библейские и фольклорные мотивы в повести;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-понять  смысл этой повести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33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Проблемный вопрос:</a:t>
            </a:r>
            <a:br>
              <a:rPr sz="4200"/>
            </a:br>
            <a:br>
              <a:rPr sz="42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В чем особенности композиции повести?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Как сочетаются в ней библейские и фольклорные мотивы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35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Притча –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поучительная история, говорящая о вечных законах жизн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30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Житие –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рассказ о жизни святого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9:08:23Z</dcterms:created>
  <dc:creator>Customer</dc:creator>
  <dc:description/>
  <dc:language>en-US</dc:language>
  <cp:lastModifiedBy>Customer</cp:lastModifiedBy>
  <dcterms:modified xsi:type="dcterms:W3CDTF">2010-12-01T19:26:22Z</dcterms:modified>
  <cp:revision>4</cp:revision>
  <dc:subject/>
  <dc:title>Тема урока:  «Повесть о Горе-Злочастии».</dc:title>
</cp:coreProperties>
</file>