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999-138C-4170-B452-3CFB4092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023-004D-4155-90D7-A9E3DDF3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AC6-730C-4963-B0F7-E1975B12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01E-9DA6-4B8B-9FE2-B8B32EA7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E8D-8330-4D7D-AA5A-D7009B83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B6A-F0FE-4C98-989F-97919040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CA2-BA50-42A2-8242-45F581BA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B0F-32D0-4CEA-A397-70326C93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260-2006-4D7F-AA5B-5C2987C4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63D-9F0F-423C-BD57-B9C23D0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03C-78CC-49B8-B2A2-3C1618B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A09-68A7-439A-8C7C-6FD7316A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F887-AA03-4A10-A71E-C32BB74611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яц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яц-это растительноядное животное, широко распространенное в Белгородской области. Различают два вида: заяц беляк и заяц рус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9" descr="0_66ebc_f42765fb_XL"/>
          <p:cNvPicPr/>
          <p:nvPr/>
        </p:nvPicPr>
        <p:blipFill>
          <a:blip r:embed="rId2"/>
          <a:stretch/>
        </p:blipFill>
        <p:spPr>
          <a:xfrm>
            <a:off x="0" y="285840"/>
            <a:ext cx="4032360" cy="3011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i?id=528301671-12-72&amp;n=21"/>
          <p:cNvPicPr/>
          <p:nvPr/>
        </p:nvPicPr>
        <p:blipFill>
          <a:blip r:embed="rId3"/>
          <a:stretch/>
        </p:blipFill>
        <p:spPr>
          <a:xfrm>
            <a:off x="1042920" y="4149720"/>
            <a:ext cx="287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л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лк –один из самых крупных хищников в нашей мес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i?id=16902190-31-72&amp;n=21"/>
          <p:cNvPicPr/>
          <p:nvPr/>
        </p:nvPicPr>
        <p:blipFill>
          <a:blip r:embed="rId2"/>
          <a:stretch/>
        </p:blipFill>
        <p:spPr>
          <a:xfrm>
            <a:off x="4643280" y="1700280"/>
            <a:ext cx="4032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с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а - очень хитрое животное, хищник. Питается мышами, ящерицами, ослабленными птицами, птенц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8" descr="i?id=307480026-56-72&amp;n=21"/>
          <p:cNvPicPr/>
          <p:nvPr/>
        </p:nvPicPr>
        <p:blipFill>
          <a:blip r:embed="rId1"/>
          <a:stretch/>
        </p:blipFill>
        <p:spPr>
          <a:xfrm>
            <a:off x="5076720" y="2595600"/>
            <a:ext cx="3456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об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бр –это самый крупный грызун в нашей местности. Питается ветками деревьев, кустарников. Является прекрасным «строителе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CASFIBs"/>
          <p:cNvPicPr/>
          <p:nvPr/>
        </p:nvPicPr>
        <p:blipFill>
          <a:blip r:embed="rId1"/>
          <a:stretch/>
        </p:blipFill>
        <p:spPr>
          <a:xfrm>
            <a:off x="4211640" y="2465280"/>
            <a:ext cx="43988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орек степной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рек степной –хищник из семейства куньих, питается яйцами птиц, мелкими животными, проникает в  частные подворья,  при этом поедая домашнюю пти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8" descr="http://im4-tub-ru.yandex.net/i?id=54986954-43-72&amp;n=21"/>
          <p:cNvPicPr/>
          <p:nvPr/>
        </p:nvPicPr>
        <p:blipFill>
          <a:blip r:embed="rId1"/>
          <a:stretch/>
        </p:blipFill>
        <p:spPr>
          <a:xfrm>
            <a:off x="4859280" y="2060640"/>
            <a:ext cx="3889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ос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сь –самое крупное травоядное млекопитающее, обитающее на территории Белгородской обла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0_14bb2_6af73845_XL"/>
          <p:cNvPicPr/>
          <p:nvPr/>
        </p:nvPicPr>
        <p:blipFill>
          <a:blip r:embed="rId1"/>
          <a:stretch/>
        </p:blipFill>
        <p:spPr>
          <a:xfrm>
            <a:off x="3995640" y="1557360"/>
            <a:ext cx="4753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икий каб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/>
        </a:graphic>
      </p:graphicFrame>
      <p:pic>
        <p:nvPicPr>
          <p:cNvPr id="65" name="Picture 5" descr="1204203541_2"/>
          <p:cNvPicPr/>
          <p:nvPr/>
        </p:nvPicPr>
        <p:blipFill>
          <a:blip r:embed="rId1"/>
          <a:stretch/>
        </p:blipFill>
        <p:spPr>
          <a:xfrm>
            <a:off x="1187280" y="1628640"/>
            <a:ext cx="6409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ебед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8" descr="1306312718"/>
          <p:cNvPicPr/>
          <p:nvPr/>
        </p:nvPicPr>
        <p:blipFill>
          <a:blip r:embed="rId1"/>
          <a:stretch/>
        </p:blipFill>
        <p:spPr>
          <a:xfrm>
            <a:off x="1908000" y="2138400"/>
            <a:ext cx="54723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7:18:00Z</dcterms:created>
  <dc:creator>Customer</dc:creator>
  <dc:description/>
  <dc:language>en-US</dc:language>
  <cp:lastModifiedBy>Customer</cp:lastModifiedBy>
  <dcterms:modified xsi:type="dcterms:W3CDTF">2012-12-17T10:04:41Z</dcterms:modified>
  <cp:revision>4</cp:revision>
  <dc:subject/>
  <dc:title>Заяц</dc:title>
</cp:coreProperties>
</file>