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DD8-EB5A-4E56-AD98-6F23A03A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78D-DA3B-47B8-B59B-E066081B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5B7-198D-44BB-ADDA-CA925525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78D-5AEE-40A7-ADBE-050844D2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3402-EF08-4DD5-AA39-8F52F17B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B534-A882-40BC-9E91-18C24DCD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1CDE-1B28-4815-B608-698F65BA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6862-596C-4D0C-A2F9-66120663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CFB4-5839-4D03-BA14-E45A547A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BD37-47C2-46D5-9274-4756CEEE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6CAA-8B9F-4375-A37B-29069483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B7E-29CB-4DCA-8A18-84761BBE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EF07-D874-43D9-A700-4B3AEB3D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DE18-BBF6-4554-AF26-871BCD31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3842-E84E-4012-BA1D-D03AD4D8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D50E-E220-4834-B162-E91BA52B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A346-95BC-4376-A332-5042D34F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B95-378B-4267-B2E0-08249070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10C-090D-4D60-AFB5-4D3149C4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EA7-6053-42F2-BD32-125393A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B2F-77B3-44E0-ACF3-A3F0C761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522-A6EB-4CF4-B189-F5BC751B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3B5-8C66-4AB0-837B-38C506A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382-25D7-477B-A8E1-ED81AE8F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E0E6-6884-4075-9472-780B6E84BA9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5205-E2F7-444E-BA66-A8007C3D963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Животные Белгородской области, занесенные в Красную книгу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еленуш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57520" y="1500120"/>
            <a:ext cx="3828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зодо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62200" y="1500120"/>
            <a:ext cx="56196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роф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76440" y="1500120"/>
            <a:ext cx="4191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ронзов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ражник-мертвая голо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28720" y="1500120"/>
            <a:ext cx="568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Хорь-перевяз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19440" y="1500120"/>
            <a:ext cx="5505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7:55:21Z</dcterms:created>
  <dc:creator>Customer</dc:creator>
  <dc:description/>
  <dc:language>en-US</dc:language>
  <cp:lastModifiedBy>Customer</cp:lastModifiedBy>
  <dcterms:modified xsi:type="dcterms:W3CDTF">2012-12-06T18:05:18Z</dcterms:modified>
  <cp:revision>2</cp:revision>
  <dc:subject/>
  <dc:title>      Животные Белгородской области, занесенные в Красную книгу</dc:title>
</cp:coreProperties>
</file>