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CBDB7-8BBC-460D-B3D5-878EBDEE54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62310-64C3-4819-B803-8C50833730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AFA6-F147-4D0A-8DF3-E14FB10F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7EE-E693-4288-AD5A-03C3CC4A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AAD-E431-4CAB-B202-69D16604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5D33-B146-45A6-9970-9DB2977B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4CE8-6E8A-44F8-9DB1-295E4783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E610-8652-4561-B1D2-F117C58B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60FB-C642-4E9D-BD1D-8F1CD358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2B0D-5583-4FC3-895E-1DC20722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1A63-04E4-46CE-B59F-CD281821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7F9-27D6-4B8D-927E-4930D294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559-84EB-44A6-AF85-998B7701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669-E0FA-4F61-903F-997749DC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2C7015-A84D-44CE-9351-A32B9D035A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689040" y="1981080"/>
            <a:ext cx="86929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1403280" y="2004840"/>
            <a:ext cx="684864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питаются животны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870480" y="3168720"/>
            <a:ext cx="7867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астениями, плодами растений, животным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2459520" y="4140360"/>
            <a:ext cx="4735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отные видят и слыш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536760" y="1916280"/>
            <a:ext cx="89848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юро добрых медвежьих услу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2627280" y="1685880"/>
            <a:ext cx="41767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где живё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1079640" y="2700360"/>
            <a:ext cx="2952720" cy="2360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5327640" y="2703600"/>
            <a:ext cx="2952720" cy="2360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о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п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л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4" descr=""/>
          <p:cNvPicPr/>
          <p:nvPr/>
        </p:nvPicPr>
        <p:blipFill>
          <a:blip r:embed="rId1"/>
          <a:stretch/>
        </p:blipFill>
        <p:spPr>
          <a:xfrm>
            <a:off x="1042920" y="281160"/>
            <a:ext cx="733896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ижний колонтитул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ямоугольник 1" descr=""/>
          <p:cNvPicPr/>
          <p:nvPr/>
        </p:nvPicPr>
        <p:blipFill>
          <a:blip r:embed="rId1"/>
          <a:stretch/>
        </p:blipFill>
        <p:spPr>
          <a:xfrm>
            <a:off x="1073160" y="281160"/>
            <a:ext cx="7997760" cy="118728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1430280" y="2340000"/>
            <a:ext cx="785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медведь,заяц,волк,конь,лиса,каб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1430280" y="3232080"/>
            <a:ext cx="785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орока,ворона,попугай,снегирь,дяте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1430280" y="4302000"/>
            <a:ext cx="785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бабочка,стриж,жук,пчела,стрекоз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158760"/>
            <a:ext cx="9852120" cy="107316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920880" y="1916280"/>
            <a:ext cx="81374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асточка день начинает, а соловей конч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920880" y="2637000"/>
            <a:ext cx="81374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колько волка не корми, он все  в лес гляд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920880" y="3343320"/>
            <a:ext cx="81374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якая сорока от своего языка погиб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920880" y="4065480"/>
            <a:ext cx="81374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сухой год зайцев больше, в сырой-мы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ижний колонтитул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708120" y="3274920"/>
            <a:ext cx="874224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184760" y="1547640"/>
            <a:ext cx="7493040" cy="40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Ветки не ломайте, деревья не калечь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 травинку, ни лист зря не рв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Старайся не шуметь, а то лес испуг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 не узнаете ни одной та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Всякие звери важны-всякие звери нуж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из них делает в природе сво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зное де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1513800" y="1258920"/>
            <a:ext cx="1807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892080" y="1692360"/>
            <a:ext cx="7527960" cy="40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В лесу живут звери, птицы, насеком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Звери-Это живот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Все насекомые живут в л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Растения и животные взаимосвяз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Всем надо охранять при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Прямоугольник 8" descr=""/>
          <p:cNvPicPr/>
          <p:nvPr/>
        </p:nvPicPr>
        <p:blipFill>
          <a:blip r:embed="rId1"/>
          <a:stretch/>
        </p:blipFill>
        <p:spPr>
          <a:xfrm>
            <a:off x="1000080" y="1743120"/>
            <a:ext cx="8077320" cy="265284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6264360" y="5681520"/>
            <a:ext cx="2808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.М. Пришв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1" descr=""/>
          <p:cNvPicPr/>
          <p:nvPr/>
        </p:nvPicPr>
        <p:blipFill>
          <a:blip r:embed="rId1"/>
          <a:stretch/>
        </p:blipFill>
        <p:spPr>
          <a:xfrm>
            <a:off x="1036800" y="1390680"/>
            <a:ext cx="8673840" cy="300528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2" descr=""/>
          <p:cNvPicPr/>
          <p:nvPr/>
        </p:nvPicPr>
        <p:blipFill>
          <a:blip r:embed="rId2"/>
          <a:stretch/>
        </p:blipFill>
        <p:spPr>
          <a:xfrm>
            <a:off x="4608360" y="3633840"/>
            <a:ext cx="304920" cy="5601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3" descr=""/>
          <p:cNvPicPr/>
          <p:nvPr/>
        </p:nvPicPr>
        <p:blipFill>
          <a:blip r:embed="rId3"/>
          <a:stretch/>
        </p:blipFill>
        <p:spPr>
          <a:xfrm>
            <a:off x="1536840" y="1127160"/>
            <a:ext cx="31104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584360" y="1979640"/>
            <a:ext cx="70498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1944720" y="1258920"/>
            <a:ext cx="604836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МНОЖАЕ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ВОР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ТАЕ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ТЁ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ДВИГАЕ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ЫШ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19280" y="755640"/>
            <a:ext cx="1925640" cy="2155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6442200" y="4727520"/>
            <a:ext cx="2628720" cy="1895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2952720" y="1093680"/>
            <a:ext cx="30574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912000" y="3828960"/>
            <a:ext cx="1990800" cy="2638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863640" y="746280"/>
            <a:ext cx="2038320" cy="2038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3203640" y="2050920"/>
            <a:ext cx="32860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350040" y="4764240"/>
            <a:ext cx="2619360" cy="1971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719280" y="684360"/>
            <a:ext cx="2638440" cy="198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3672000" y="2063880"/>
            <a:ext cx="23446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746640" y="1339920"/>
            <a:ext cx="847296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ери-животные, тело которых покрыто шер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738360" y="2484360"/>
            <a:ext cx="83833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тицы-животные, тело которых покрыто перьями, и они имеют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719280" y="3635280"/>
            <a:ext cx="90010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екомые-животные, у которых шесть ног (3 пары) и ещё могут быть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576360" y="2266920"/>
            <a:ext cx="871200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Животные самостоятельно и активно передвигаются, а раст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дут неподвижный образ, прикрепляясь корнями к зем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1:18:49Z</dcterms:created>
  <dc:creator/>
  <dc:description/>
  <dc:language>en-US</dc:language>
  <cp:lastModifiedBy>Server</cp:lastModifiedBy>
  <dcterms:modified xsi:type="dcterms:W3CDTF">2012-03-29T06:04:17Z</dcterms:modified>
  <cp:revision>70</cp:revision>
  <dc:subject/>
  <dc:title>Слайд 1</dc:title>
</cp:coreProperties>
</file>