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E674-E66C-4DDE-AB5D-3E871F2DA1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DD45-BBDF-45BA-A884-AC924BB6AA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03E-DB75-4DE8-A13A-0623EBCE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942C-F43C-48A8-B280-E9F90813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65D2-2648-4781-B8D8-FF0975DC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BA0-5902-4AF2-9EEE-E1584111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3D0E-8A08-40C2-BE0C-280B4D71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C99-65E4-4F0D-AD34-CB133BD6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502-5E44-4E89-894F-1F7F6D92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04F2-604D-40AB-A34C-DD79F0A0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B4D-4AFA-4347-B71B-689F7E9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5EC-1A64-4C70-8498-B386DD2F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1F7-499A-4546-9E66-58C7734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22B1-DEAF-4C23-8E3C-8FB9D214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BB4F-F8F2-4787-BF49-56B742FE35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yshared.ru/slide/1203622/" TargetMode="External"/><Relationship Id="rId2" Type="http://schemas.openxmlformats.org/officeDocument/2006/relationships/hyperlink" Target="http://shkolniy-urok.ru/russkij-yazyk/skazuemoe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0020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1f497d"/>
                </a:solidFill>
                <a:latin typeface="Calibri"/>
              </a:rPr>
              <a:t>Сказуемо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1619280" y="1268280"/>
            <a:ext cx="57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468360" y="3068640"/>
            <a:ext cx="860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77, выучить правил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. 165 (составить не менее 3 предложе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85480" y="92880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ы бы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означает сказуемое, на какие вопросы отвечает, чем выраже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находить сказуемое в предложе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стной и письменной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4716360" y="1228680"/>
            <a:ext cx="42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г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основе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го 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разных способах  выражения сказуемо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учитьс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льно  выделять  сказуемое  в 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устной и письменной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212760" y="227160"/>
            <a:ext cx="8718480" cy="6505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-142920" y="0"/>
            <a:ext cx="9226440" cy="6885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684360" y="1125360"/>
            <a:ext cx="37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684360" y="907920"/>
            <a:ext cx="805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урок</a:t>
            </a:r>
            <a:r>
              <a:rPr b="1" lang="ru-RU" sz="6000" spc="-1" strike="noStrike">
                <a:solidFill>
                  <a:srgbClr val="002060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1692360" y="2421000"/>
            <a:ext cx="6192720" cy="20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 http://www.myshared.ru/slide/1203622/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2.  http://shkolniy-urok.ru/russkij-yazyk/skazuemoe.htm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ели  урока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5480" y="928800"/>
            <a:ext cx="41432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ы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лж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знать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обозначает сказуемое, на какие вопросы отвечает, чем выраже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учитьс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находить сказуемое в предложе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спользов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устной и письменной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анимашки\фоны\school-bg02[1].thumbnail.jpg"/>
          <p:cNvPicPr/>
          <p:nvPr/>
        </p:nvPicPr>
        <p:blipFill>
          <a:blip r:embed="rId1"/>
          <a:stretch/>
        </p:blipFill>
        <p:spPr>
          <a:xfrm>
            <a:off x="-68400" y="177840"/>
            <a:ext cx="8823600" cy="65008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2" name="Прямоугольник 3"/>
          <p:cNvSpPr/>
          <p:nvPr/>
        </p:nvSpPr>
        <p:spPr>
          <a:xfrm>
            <a:off x="857160" y="2786040"/>
            <a:ext cx="7286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636120" y="150012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из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1080000" y="1928880"/>
            <a:ext cx="260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рожк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2291760" y="2428920"/>
            <a:ext cx="17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3276720" y="29289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ле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0"/>
          <p:cNvSpPr/>
          <p:nvPr/>
        </p:nvSpPr>
        <p:spPr>
          <a:xfrm>
            <a:off x="4343400" y="3429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не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1"/>
          <p:cNvSpPr/>
          <p:nvPr/>
        </p:nvSpPr>
        <p:spPr>
          <a:xfrm>
            <a:off x="5541840" y="407196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бли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Блок-схема: перфолента 15" descr=""/>
          <p:cNvPicPr/>
          <p:nvPr/>
        </p:nvPicPr>
        <p:blipFill>
          <a:blip r:embed="rId2"/>
          <a:stretch/>
        </p:blipFill>
        <p:spPr>
          <a:xfrm>
            <a:off x="2560680" y="347760"/>
            <a:ext cx="3949560" cy="145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571680" y="264312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казуемое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–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3571920" y="50004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 член  предлож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286080" y="1357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значает  действие предмета, его состо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3643200" y="2714760"/>
            <a:ext cx="535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ет  на  вопро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то  делает  предмет?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643200" y="4143240"/>
            <a:ext cx="404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жается  глаго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3571920" y="5143680"/>
            <a:ext cx="54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чёркивается  двумя 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571680" y="285840"/>
            <a:ext cx="607212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елёная  ёлочка  стои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 опушке  ле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0301TREC.WMF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6429240" y="285840"/>
            <a:ext cx="2500560" cy="32684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8"/>
          <p:cNvSpPr/>
          <p:nvPr/>
        </p:nvSpPr>
        <p:spPr>
          <a:xfrm>
            <a:off x="928800" y="428760"/>
            <a:ext cx="5500440" cy="2071440"/>
          </a:xfrm>
          <a:prstGeom prst="rect">
            <a:avLst/>
          </a:prstGeom>
          <a:solidFill>
            <a:srgbClr val="00b050"/>
          </a:solidFill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елёная  ёлочка  стоит  на  опушке  ле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5000760" y="435780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лько  ёлочка  на  опушке  леса  стоит  зелёна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4572000" y="4005360"/>
            <a:ext cx="4572000" cy="2143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Только  ёлочка  на  опушке  леса  стоит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елён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6" descr="Осень.jpg"/>
          <p:cNvPicPr/>
          <p:nvPr/>
        </p:nvPicPr>
        <p:blipFill>
          <a:blip r:embed="rId2"/>
          <a:stretch/>
        </p:blipFill>
        <p:spPr>
          <a:xfrm>
            <a:off x="357120" y="3565440"/>
            <a:ext cx="3714840" cy="2927520"/>
          </a:xfrm>
          <a:prstGeom prst="rect">
            <a:avLst/>
          </a:prstGeom>
          <a:ln w="0">
            <a:noFill/>
          </a:ln>
        </p:spPr>
      </p:pic>
      <p:cxnSp>
        <p:nvCxnSpPr>
          <p:cNvPr id="72" name="AutoShape 9"/>
          <p:cNvCxnSpPr>
            <a:stCxn id="68" idx="3"/>
            <a:endCxn id="68" idx="3"/>
          </p:cNvCxnSpPr>
          <p:nvPr/>
        </p:nvCxnSpPr>
        <p:spPr>
          <a:xfrm>
            <a:off x="6447960" y="1464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Line 12"/>
          <p:cNvSpPr/>
          <p:nvPr/>
        </p:nvSpPr>
        <p:spPr>
          <a:xfrm>
            <a:off x="7740720" y="5157720"/>
            <a:ext cx="12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4716360" y="5734080"/>
            <a:ext cx="1727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>
            <a:off x="5003640" y="1413000"/>
            <a:ext cx="10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9"/>
          <p:cNvSpPr/>
          <p:nvPr/>
        </p:nvSpPr>
        <p:spPr>
          <a:xfrm>
            <a:off x="3276720" y="14130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2"/>
          <p:cNvSpPr/>
          <p:nvPr/>
        </p:nvSpPr>
        <p:spPr>
          <a:xfrm>
            <a:off x="5003640" y="1557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6443640" y="4437000"/>
            <a:ext cx="151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25"/>
          <p:cNvSpPr/>
          <p:nvPr/>
        </p:nvSpPr>
        <p:spPr>
          <a:xfrm>
            <a:off x="7740720" y="501336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6"/>
          <p:cNvSpPr/>
          <p:nvPr/>
        </p:nvSpPr>
        <p:spPr>
          <a:xfrm>
            <a:off x="4716360" y="5589720"/>
            <a:ext cx="16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Ломоносов.jpg"/>
          <p:cNvPicPr/>
          <p:nvPr/>
        </p:nvPicPr>
        <p:blipFill>
          <a:blip r:embed="rId1"/>
          <a:stretch/>
        </p:blipFill>
        <p:spPr>
          <a:xfrm>
            <a:off x="539640" y="333360"/>
            <a:ext cx="4500720" cy="5807160"/>
          </a:xfrm>
          <a:prstGeom prst="rect">
            <a:avLst/>
          </a:prstGeom>
          <a:ln w="9360">
            <a:solidFill>
              <a:srgbClr val="1e1c11"/>
            </a:solidFill>
            <a:miter/>
          </a:ln>
        </p:spPr>
      </p:pic>
      <p:sp>
        <p:nvSpPr>
          <p:cNvPr id="82" name="Text Box 5"/>
          <p:cNvSpPr/>
          <p:nvPr/>
        </p:nvSpPr>
        <p:spPr>
          <a:xfrm>
            <a:off x="5508720" y="620640"/>
            <a:ext cx="338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мин  «сказуемое»  ввёл  М.В.Ломонос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ЗУЕМОЕ –  то, что «сказано о подлежаще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00040" y="2571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казу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429000" y="35712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лавный  член  предлож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3429000" y="1143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означает  то,  что  сообщае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  подлежащ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3429000" y="2286000"/>
            <a:ext cx="535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ражается  глаголом,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уществительным,  прилагательны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429000" y="392904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чает  на  вопросы:  что  делает  предмет?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каков  он?  что  он  такое?  кто  он  такой?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429000" y="557208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дчёркивается  двумя  чер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357120" y="142920"/>
            <a:ext cx="8572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ветьте  на  поставленные  вопрос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А  или 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500040" y="1214280"/>
            <a:ext cx="5857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казуемое обозначает о ком или о чём говорится в предложе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00040" y="214308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Сказуемое отвечает на вопрос кто он такой? Что он такое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7500960" y="1357200"/>
            <a:ext cx="85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блако 9"/>
          <p:cNvSpPr/>
          <p:nvPr/>
        </p:nvSpPr>
        <p:spPr>
          <a:xfrm>
            <a:off x="7130880" y="882720"/>
            <a:ext cx="2071800" cy="128592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558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6715080" y="2571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500040" y="3571920"/>
            <a:ext cx="65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3.</a:t>
            </a:r>
            <a:r>
              <a:rPr b="1" lang="ru-RU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215968"/>
                </a:solidFill>
                <a:latin typeface="Calibri"/>
              </a:rPr>
              <a:t>Краткое прилагательное всегда сказуем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олнце 14"/>
          <p:cNvSpPr/>
          <p:nvPr/>
        </p:nvSpPr>
        <p:spPr>
          <a:xfrm>
            <a:off x="6357960" y="2344680"/>
            <a:ext cx="1643040" cy="12272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5"/>
          <p:cNvSpPr/>
          <p:nvPr/>
        </p:nvSpPr>
        <p:spPr>
          <a:xfrm>
            <a:off x="7000920" y="357192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блако 16"/>
          <p:cNvSpPr/>
          <p:nvPr/>
        </p:nvSpPr>
        <p:spPr>
          <a:xfrm>
            <a:off x="6156360" y="3443400"/>
            <a:ext cx="2216160" cy="1143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558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7"/>
          <p:cNvSpPr/>
          <p:nvPr/>
        </p:nvSpPr>
        <p:spPr>
          <a:xfrm>
            <a:off x="500040" y="4643280"/>
            <a:ext cx="601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4. Подлежащее обозначает, что говорится о предме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9"/>
          <p:cNvSpPr/>
          <p:nvPr/>
        </p:nvSpPr>
        <p:spPr>
          <a:xfrm>
            <a:off x="6715080" y="4857840"/>
            <a:ext cx="78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блако 20"/>
          <p:cNvSpPr/>
          <p:nvPr/>
        </p:nvSpPr>
        <p:spPr>
          <a:xfrm>
            <a:off x="6357960" y="4586400"/>
            <a:ext cx="1571760" cy="11174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558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500040" y="564372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953735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В  предложении </a:t>
            </a:r>
            <a:r>
              <a:rPr b="1" i="1" lang="ru-RU" sz="2800" spc="-1" strike="noStrike">
                <a:solidFill>
                  <a:srgbClr val="953735"/>
                </a:solidFill>
                <a:latin typeface="Calibri"/>
              </a:rPr>
              <a:t>Осенью природа увя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слово «увядает» является сказуем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7858080" y="57862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блако 23"/>
          <p:cNvSpPr/>
          <p:nvPr/>
        </p:nvSpPr>
        <p:spPr>
          <a:xfrm>
            <a:off x="7929720" y="5719680"/>
            <a:ext cx="1000080" cy="85716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ffffff"/>
          </a:solidFill>
          <a:ln w="25560">
            <a:solidFill>
              <a:srgbClr val="558e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116000" y="90792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ловар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1020960" y="2205000"/>
            <a:ext cx="265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ать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3603600" y="2006640"/>
            <a:ext cx="4784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25406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Лишаться свежести ( о растения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н</a:t>
            </a:r>
            <a:r>
              <a:rPr b="1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. Терять силы, бодрость, энергию</a:t>
            </a:r>
            <a:r>
              <a:rPr b="0" lang="ru-RU" sz="28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22:04:12Z</dcterms:created>
  <dc:creator>Admin</dc:creator>
  <dc:description/>
  <dc:language>en-US</dc:language>
  <cp:lastModifiedBy>Журавлёва Валентина</cp:lastModifiedBy>
  <dcterms:modified xsi:type="dcterms:W3CDTF">2016-10-19T20:03:42Z</dcterms:modified>
  <cp:revision>216</cp:revision>
  <dc:subject/>
  <dc:title>Виды  сказуемых</dc:title>
</cp:coreProperties>
</file>